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06106-307D-44B7-BD45-9E437D7A7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A32DF-A066-4C7E-9EDF-1E3328A47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CE057-A3B8-4A5C-8679-2612B6AFB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D7514-4A54-4945-815E-C21963303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E7DDF2-5936-48CE-A2C9-B464740BA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B01328-2789-4436-A27F-BAE74EE7D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AFEA0B-3D85-4254-9A8A-61475C22B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704961-B401-4F1C-B3F1-F8FD95E8A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BB2BF8-132A-4FE4-B535-44F3585EC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F7579A-3F95-480C-AEB5-5869745C0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10704C-1757-40EE-8DBE-E69875B88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70598-593D-46A4-B898-AA4F4E08F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9A3BA0-0602-4403-BE5E-E2911BDA8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7825EA-C120-47E5-973F-A0646978A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2CC1D9-9879-40A0-A041-D379ED13B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F08D7C-8A8E-4E90-925A-97E935208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E533B6-86C0-4259-8F58-415374E73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AA9D9-B13F-4117-B801-8A6627CB5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79A93-3D67-44C5-8D5F-B59768863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9E0C1-FEEB-489E-A0BE-2DAA3ED6D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260F9-7232-42A3-BDD3-DA565BD44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7B719-E775-490A-A04F-A9D4C7F09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9A92A-1505-49DB-AD05-8EDB7F4EF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E68BA-EA8C-4DD2-914C-92FB25AEC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81227-B2AC-4004-AB99-0814CE96EAB7}" type="slidenum"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4F185-BFB9-448E-9BB5-D8362A1974C3}" type="slidenum"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4360" y="2085840"/>
            <a:ext cx="7772400" cy="10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Indikatore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on Janina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&amp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na-Le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as sind Indikatoren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dikator leitet sich von indicare (=anzeigen) ab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der Chemie: = Stoff oder Gerät zur Überwachung von chemischer Reaktion oder Zustan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äure/Base Indikatore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ahoma"/>
              </a:rPr>
              <a:t>Im allg. organische Säuren mit verschiedener Farbe zur korrespondierenden Bas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de-DE" sz="3200" spc="-1" strike="noStrike">
                <a:solidFill>
                  <a:srgbClr val="ffffff"/>
                </a:solidFill>
                <a:latin typeface="Tahoma"/>
              </a:rPr>
              <a:t>Bsp: Bei Methylorange Säure rot &amp; korr. Base gelb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Umschlagsbereiche von Säure/Base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               Indikatore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Die Farbe eines Indikators ergibt sich aus dem Gleichgewicht von Säure &amp; kor. Base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Farbwechsel ist erst bei zehnfachem Überschuss der Säure bzw. der Kor. Base vollständig sichtbar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Indikatoren können einen oder zwei Umschlagsbereiche besitzen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1771560" y="4716360"/>
            <a:ext cx="7372440" cy="21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6300720" y="3500280"/>
            <a:ext cx="2843280" cy="33577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Tahoma"/>
              </a:rPr>
              <a:t>Das ph-Meter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chnelle und genaue Bestimmung von pH-Wert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rzeugt durch Elektrode eine Spannung, welche vom pH-Wert abhäng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Universal- &amp; Spezialindikatore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ahoma"/>
              </a:rPr>
              <a:t>Universalindikator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ahoma"/>
              </a:rPr>
              <a:t>Gemisch von Indikatoren mit versch. Umschlagsbereichen (Bsp.Indikatorpapier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ahoma"/>
              </a:rPr>
              <a:t>pH - Bereich 1-1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ahoma"/>
              </a:rPr>
              <a:t>Spezialindikator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ahoma"/>
              </a:rPr>
              <a:t>Kleinere pH-Bereiche bis zu 0,2 pH-Einheit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Versuch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.Materialien: 2 Bechergläser; Schwarzer Tee; Rotkohlsaft; Zitronensaft; Spülmitt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. Versuchaufbau: Je ein Becherglas mit Tee und Rotkohlsaft füll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3.Versuch:1 Spritzer Zitronensaft in den Tee geb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 Spritzer Spülmittel in den Rotkohlsaft geb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4. Ergebnis?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7T16:25:10Z</dcterms:created>
  <dc:creator>Lena</dc:creator>
  <dc:description/>
  <dc:language>en-US</dc:language>
  <cp:lastModifiedBy>Lena</cp:lastModifiedBy>
  <dcterms:modified xsi:type="dcterms:W3CDTF">2005-12-13T18:17:14Z</dcterms:modified>
  <cp:revision>5</cp:revision>
  <dc:subject/>
  <dc:title>Indikatoren</dc:title>
</cp:coreProperties>
</file>